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0B0-4AEA-4EE6-858A-DB160EA7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0AE-ECBA-47F7-B812-415A493C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C7C-0E34-4EFA-B833-03323F38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CDF-8DEC-47F0-B415-23B76024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56F7-3F86-48D8-BAC7-2D6BE13A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5471-2CDD-43B5-B899-1618FCB2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9A12-B0A1-465A-9764-C37CA80F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7300-38DA-4204-9811-BA643E1B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E063-AE27-4306-A1DD-1770C712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F973-FD6A-4059-B683-3335846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4311-73B9-49E8-96C7-7EB2FC0B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4E2-45E8-47AA-A822-86FD4E8B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00E2-767C-4213-B717-65F4DBAF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58A6-EED5-4931-B8C9-28C743C3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609-6F75-43C0-8C12-5656A1DE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9169-A991-49A2-82F0-85547B79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0C3D-CBA1-45B1-804A-D0269199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8CD54-947F-42A8-A5E1-29EF78B8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FFAD5-4710-464A-94F0-FF371615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5606B-B93E-49D8-B2F6-2F596646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1CB20-96B4-4892-9AAF-2D119EFF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93F74-8B6D-4262-871F-212DAC0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05C-956F-41A1-80AE-61147193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0EB92-D4FB-46B8-90C6-83EDE658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F4B73-DEB2-4854-9D32-7C58EE9C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6BF2D-10C8-40D4-9429-5C75632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FB514-35A8-4E95-9E4D-A6A1C50C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B18B5-1C92-4A4F-960B-5F71C22C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A687D-4F48-4B68-85EA-7A22145C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36244-3C49-4CDC-ABEC-725B3963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EAB0-D38C-4936-B4AE-C3AC4683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01A20-F958-48CC-8280-122F18C5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CBE9-702C-4FEC-BD95-C972C61A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CFF-ECB3-48C0-9A5D-D8605251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462C-1EFA-4E0F-AF04-D6587EA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1E96-435B-4E66-927B-3DAAA64A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1E9B-820C-42F2-9335-E15CB4D3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532D-D64D-486F-A3A6-0BA104E6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417C-204E-497D-9543-232F10D1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8F0B-FA99-4B3C-8E85-A118633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7D23-E6EE-4B39-B02C-79BC228B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81FA-E37D-4946-B88C-F1E4B704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CC26-6472-469F-9886-D3A0E40C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D62B2-1A37-4F22-B507-53AEC5B6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F2F-06B0-4C70-B643-5F6393ED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978D-A2DE-40D8-820B-12361C0D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CC08-5400-484F-95F0-4595813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1C70-44B7-44FC-9EC0-EBD90512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EFC3C-A4BA-449A-B4B2-9A99B9A3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8C10-23C1-4C52-8284-1841F4DB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27BE8-7F0A-40F6-927A-DA75308F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85DB-8612-4A79-B53E-6FC5FE8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3904-9C23-44F9-87C3-9A0D3CC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AF75-37DC-4106-8653-8513087B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4605-BCA5-4DF4-8219-0C9B0CD9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74D-B8CD-4CE8-A1DE-17FA696F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E3D5-6903-4A00-9357-48AC26FD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353B-64DE-4FBB-B515-CEF700F0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186CE-D312-4DD3-8FA1-E5D542E8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D180-7B85-4F33-BD38-2222336B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2D3DA-3922-475F-A92F-C3239513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3A641-92F3-41D0-BABE-FCADD53D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B6556-1ACE-4D72-BCAB-32711DC3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A365-C2F3-4262-A54D-937974EC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E349-1ABA-4B36-A3F4-80DA535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D59CE-530D-4307-805C-DEBFF51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58E-55BB-4B64-8C7C-78A888FD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56B81-B693-4F52-A20F-4CA27B2C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25E73-B478-4A6A-B8AC-E23919C0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7860-8E51-4EE4-940F-7B51AA84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1691B-E274-4B08-BADF-6F53CDB6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1EC8E-4B30-4706-9ACA-31255354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96C2-AE42-4280-B307-425CB930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DE2BC-DF16-4AB8-9C23-65FE977D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1C986-48B1-4566-8DBF-B54B089A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8E0B-1D2C-435E-A717-956D439E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296ED-4E89-480A-A2CE-4458DEEC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616-82E0-4E65-A2F6-D4BE922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EF54-3BFC-44C1-B555-4897FF0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407D0-A283-45CA-83F2-C29D325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10F59-AE40-4288-A446-E25B6EE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10789-1827-48B8-845B-062B1F05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19122-44DD-44F0-B65E-8D48A568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F2C-BA06-4868-9285-0C373E7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37DD-AA42-410F-80BE-3D7FF0A7F23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AA6A-682A-4575-86FA-A71C1F754E2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1E87-58CA-4C85-9FB8-6C1398F7B9F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0280-E0BA-4135-88F8-3093409B0C7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4BB3-265D-4E5D-8068-C12E1424779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D217-DCA1-4787-B8C3-A826F8B6DC1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52DF-CC27-4F58-9D37-7DC5009B6CE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Century Schoolbook"/>
              </a:rPr>
              <a:t>Виктор   Юзефович  Драгунский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entury Schoolbook"/>
              </a:rPr>
              <a:t>«Одна  капля  убивает  лошадь»</a:t>
            </a:r>
            <a:endParaRPr b="0" lang="en-US" sz="44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Составила   учитель   начальных   классов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ОУ   Лицей№52</a:t>
            </a:r>
            <a:r>
              <a:rPr b="1" lang="en-US" sz="2400" spc="-1" strike="noStrike">
                <a:solidFill>
                  <a:srgbClr val="424456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г. Уф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амонтова  О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иктор   Драгунский   родился 30/11  1913г. в   г. Нью – Йорке в   семье   эмигрантов, но   в  1925 г. переехал   в  Москву. Работал   актёром, сыграл   несколько   ролей   в   кино. Во   время   ВОВ служил  в   ополчении. Виктор Драгунский умер в 1972 году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исателя похоронил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Москв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ragunskii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700280"/>
            <a:ext cx="3632400" cy="4464000"/>
          </a:xfrm>
          <a:prstGeom prst="rect">
            <a:avLst/>
          </a:prstGeom>
          <a:ln w="0">
            <a:noFill/>
          </a:ln>
        </p:spPr>
      </p:pic>
      <p:sp>
        <p:nvSpPr>
          <p:cNvPr id="382" name="WordArt 11"/>
          <p:cNvSpPr txBox="1"/>
          <p:nvPr/>
        </p:nvSpPr>
        <p:spPr>
          <a:xfrm>
            <a:off x="1835280" y="549360"/>
            <a:ext cx="547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графия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 1959  года  пишет   весёлые   рассказы  про   Дениса   Кораблёва – «Денискины  рассказы». Героя   смешных   историй автор   назвал   в   честь   сына. Все   знают   эти  истор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  секрету  всему  свету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Капитан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жар   во   флигел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Девочка на   шар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Заколдованная  буква»  и  д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6438960" y="2247840"/>
            <a:ext cx="885600" cy="1333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390760" cy="2595600"/>
          </a:xfrm>
          <a:prstGeom prst="rect">
            <a:avLst/>
          </a:prstGeom>
          <a:ln w="0">
            <a:noFill/>
          </a:ln>
        </p:spPr>
      </p:pic>
      <p:sp>
        <p:nvSpPr>
          <p:cNvPr id="387" name="WordArt 8"/>
          <p:cNvSpPr txBox="1"/>
          <p:nvPr/>
        </p:nvSpPr>
        <p:spPr>
          <a:xfrm>
            <a:off x="1332000" y="260280"/>
            <a:ext cx="63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е   рассказ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Century Schoolbook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24000" cy="309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5985000" y="1905120"/>
            <a:ext cx="1793880" cy="201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948040" cy="3213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2454480" cy="299700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1"/>
          <p:cNvSpPr txBox="1"/>
          <p:nvPr/>
        </p:nvSpPr>
        <p:spPr>
          <a:xfrm>
            <a:off x="1476360" y="333360"/>
            <a:ext cx="676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юбимые   книг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Объясни</a:t>
            </a:r>
            <a:r>
              <a:rPr b="0" i="1" lang="ru-RU" sz="4800" spc="-1" strike="noStrike">
                <a:solidFill>
                  <a:srgbClr val="a50021"/>
                </a:solidFill>
                <a:latin typeface="Century Schoolbook"/>
              </a:rPr>
              <a:t>  </a:t>
            </a: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слова</a:t>
            </a:r>
            <a:endParaRPr b="0" lang="en-US" sz="6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Никотин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яд, содержащийся  в  табак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апиросы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ильза из папиросной бумаги, в которую засыпан измельчённый таба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Захудалый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лабый, истощенный, хилы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ортсигар –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оский   футляр, коробочка для переноски сигар , сигарет  или папирос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«Казбек» –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ершина  Кавказа; здесь: сорт  папирос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Мундштук -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ердая, свободная от табака часть папиросной гильзы, которую при курении берут в ро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190800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Century Schoolbook"/>
              </a:rPr>
              <a:t>Вопросы   к   тексту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b9aaf8"/>
              </a:gs>
              <a:gs pos="100000">
                <a:srgbClr val="eff9f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напугало  Дениса  в  словах  доктора  и  мам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возмутило  мальчика  в  поведении  тети  Тамар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  Почему  мальчик  ругался  про  себя, а  не  вслу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 Зачем  Денис  испортил  папиросы  отц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 ли  поступили  папа  и  гости, смеясь  над  Денисо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но,  папа  ничего  не  понял.»  Что  он  должен  был  поня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 тебе  понравился  в  этом  рассказ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 кто  не  понравился?  По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entury Schoolbook"/>
              </a:rPr>
              <a:t>Задание   на   дом</a:t>
            </a:r>
            <a:r>
              <a:rPr b="0" lang="ru-RU" sz="4000" spc="-1" strike="noStrike">
                <a:solidFill>
                  <a:srgbClr val="424456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пиши  речь  о  вреде  курения. Какие   аргументы  ты  приведешь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жешь  проиллюстрировать  свою  речь   рисунком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0:51:26Z</dcterms:created>
  <dc:creator>Admin</dc:creator>
  <dc:description/>
  <dc:language>en-US</dc:language>
  <cp:lastModifiedBy>User</cp:lastModifiedBy>
  <dcterms:modified xsi:type="dcterms:W3CDTF">2011-10-12T12:23:21Z</dcterms:modified>
  <cp:revision>21</cp:revision>
  <dc:subject/>
  <dc:title>Слайд 1</dc:title>
</cp:coreProperties>
</file>